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D38-6582-4CAE-B4B4-750A38DA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2D3-C5BD-47E5-9CBD-21B4F1A8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583-4B9B-49C1-BC82-63997A65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65F-C0EF-4C31-A93F-B7E4F567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C08D-15CE-4F8C-B4E3-AA9AA5E9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5A22-D7B9-476F-8D0A-B5E2F16B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2575-8AEC-40AE-A6A2-299F24B0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77AE-8B95-48E6-81F3-61891C9B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ADC0-44AA-4BB4-9E2E-2EE45351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7A30-91AF-4ECD-A482-7EEF9029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FADF-419D-41E8-B2C8-F9692155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D2B-B53D-47B7-B9AE-28FDB5BD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881D-88D9-4E9A-9A4F-6371DC4F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0C1B-898C-4AD9-9CF0-014C1962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D96C-A6D5-48F0-B31D-9CDA9258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8F6F-5599-497B-9E7F-68CA90C5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87E1-CFA9-414B-8092-F0F382DF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456-CF93-43A1-A8D1-11E208CE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E0E-B6B0-4E11-9A3F-72EAD45B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789-08E0-40EB-8D7B-5490DB62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F24-2A8A-461B-B7C8-D427E26B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691-6CFA-4B50-8DEF-5EE6E1C3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495-AB67-4FA7-B9F3-EA117436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D53-A93A-4845-9FE5-38687D8D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2519-8D95-46F8-9B5E-919042CB128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5976-EAB9-4F7B-95BD-B3C3EF30C94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9640" y="404640"/>
            <a:ext cx="7848720" cy="81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ffffff"/>
                </a:solidFill>
                <a:uFillTx/>
                <a:latin typeface="Times New Roman"/>
              </a:rPr>
              <a:t>JARYAS O CANCIONES DE MUJERES DE TIPO TR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requerimiento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confidente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 os vais, ¡oh señor!,                                “¿Qué haré yo, mam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ntes quiero besaros la boca roja,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mi amigo ya se va;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ermeja como la cúrcuma”.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yo le quiero quieto.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Si tanto no le amase!”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i señor Ibrahim,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“¡Mamá, qué amigo!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oh dulce nombre!,                                     bajo la guedejilla rubit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vente a mí de noche.                                  el cuello al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 no quieres,                                              y la boca coloradita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Ireme a ti,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ime a dond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 verte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No te amaré                                            “Decidme ¡oh gentes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no es con la condición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¿qué os parec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que unas mis ajorcas</a:t>
            </a: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                       ¡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Por Dios! Como mi señor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con mis pendientes”.                                su medicina no me da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312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84200" y="13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3120" y="209520"/>
            <a:ext cx="82296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requerimiento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confidente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miguito, decídete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“¡Dime antes que te mat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ven a tomarme,                                        ¡Quién soltó tus zaragüell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ésame la boc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No fue el amigo nuevo, mad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priétame los pechos;                              fue el antiguo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junta ajorca y pendiente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i marido está ocupado”.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queja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Al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e improviso, besó mi boca,                       “Ven, hechice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e lo diré a mi madre”.                                   alba que está con tan bello fulg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cuando viene pide amor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Por Dios!, me desahogué gritando,             “No dormiré, mamá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e ha roto mi pecho,                                      al rayar el alb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e ha herido mis labios                                  viene Abul_Qas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y me ha deshecho el collar!”                           con faz de aurora”.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42920" y="836640"/>
            <a:ext cx="6778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aus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¿Qué haré o que será de mi amig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No te vayas de mí!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ime cómo llorar esta aus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No tant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Ay de los ojos de la enamo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 no estás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!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i amigo se retra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¿Quién ocultó la lun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para que se perd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y errase el camino?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2:20:02Z</dcterms:created>
  <dc:creator> </dc:creator>
  <dc:description/>
  <dc:language>en-US</dc:language>
  <cp:lastModifiedBy> </cp:lastModifiedBy>
  <dcterms:modified xsi:type="dcterms:W3CDTF">2007-10-03T23:01:01Z</dcterms:modified>
  <cp:revision>4</cp:revision>
  <dc:subject/>
  <dc:title>Diapositiva 1</dc:title>
</cp:coreProperties>
</file>